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681-3757-46C7-A449-84CAE371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481-E613-4CC8-BC92-AB37A2AC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DBB-E429-40A6-BFC5-9EF5A456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E51-77AB-4963-BB7E-327EA750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357-C508-41E5-BA22-085D4293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56F-8386-4564-8E5B-74816DF0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ED6-1670-4335-A5A7-00ABA857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AC9-F0C7-450A-8059-07BFDDE9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DE2-95B9-4ABD-8B8A-4C133C26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55A-3F62-4CEE-8D9D-588E9CDD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314-BABE-44CF-AFB3-025D9A23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925-40FC-4421-9E09-51B66FC4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E371-1E6E-400E-9D53-D921A2E2067A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914400" y="171360"/>
            <a:ext cx="8242200" cy="4876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000000"/>
                </a:solidFill>
                <a:latin typeface="Comic Sans MS"/>
              </a:rPr>
              <a:t>Let’s get ready to rumble!!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bfbfbf"/>
                </a:solidFill>
                <a:latin typeface="Comic Sans MS"/>
              </a:rPr>
              <a:t>26 letter sounds and  5 digraph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Jock Jams - Lets Get Ready To Rumble.mp3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1000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j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9280" y="404640"/>
            <a:ext cx="8229600" cy="593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l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m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n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sh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ch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wh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ph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th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k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w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8:38:51Z</dcterms:created>
  <dc:creator>Katie Goodridge</dc:creator>
  <dc:description/>
  <dc:language>en-US</dc:language>
  <cp:lastModifiedBy>Wendy Dorothy</cp:lastModifiedBy>
  <dcterms:modified xsi:type="dcterms:W3CDTF">2011-09-29T20:41:19Z</dcterms:modified>
  <cp:revision>17</cp:revision>
  <dc:subject/>
  <dc:title>Word Rumble</dc:title>
</cp:coreProperties>
</file>